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FAC-74D2-4F6B-B68C-A21DC27F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1A2-E7CB-4DFA-95B0-0E5291F5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76A-390D-47AC-85BB-B7E84830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8AE-D0F8-4800-874C-5CA1DAFF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754-7BFD-4178-B653-1A53AA10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E4B-6625-43E5-B7C2-CEF76290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780-D817-49E0-BC4E-B7320D4F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1DC-F582-4134-A385-767C29EE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0BF-AA37-4D6F-A2FC-AC29AD94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1FF-3C12-4AA1-A168-9DF2FE58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D52-8D60-4282-ADF4-600928BB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D03-A40D-46F1-A172-E7AE89E8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BA06-3945-4267-BB8E-159D38800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predni kurs o visokotehnološkom kriminalu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 sudije i tuži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ija 1.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evni pre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77240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daci se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kraja ove lekcije polaznici će biti u stanju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kuju sve one oblasti i aktivnosti prethodnih dana koje su u potpunosti percipi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kuju one oblasti u kojima treba još jednom razmotriti nastavni materijal da bi njihovo znanje doseglo željeni n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e obrađene prvog d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aranje kursa i predstavlj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zentacija - Razvoj ist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pni rad na istrag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zentacija - Međunarodna sarad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pni rad na međunarodnoj sara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pni rad na identifikaciji osumnjičen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9625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47840" y="61740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9:58:09Z</dcterms:created>
  <dc:creator>Master</dc:creator>
  <dc:description/>
  <dc:language>en-US</dc:language>
  <cp:lastModifiedBy>Master</cp:lastModifiedBy>
  <dcterms:modified xsi:type="dcterms:W3CDTF">2013-09-12T10:01:06Z</dcterms:modified>
  <cp:revision>2</cp:revision>
  <dc:subject/>
  <dc:title>Slide 1</dc:title>
</cp:coreProperties>
</file>